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6EA-5704-4BC1-85B1-0F7E3D80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F06-34B5-4A8F-894C-1F82FED6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E84B4-2554-463A-80F9-605626C1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EDB4F-FEB1-4028-8352-CF72293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AC3F6-0660-410A-A981-D1B5D18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EF86B-5696-4BD4-85B8-CF259C70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346D6-D305-4DB8-8591-0256F3EC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A4B31-8AE2-4FBD-8E0C-6C7B1B54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616BE-8516-44B5-93F1-A5DB5EB2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6F23D-51AD-4FA5-9ED2-562C6C11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45FF1-04E1-44B3-90A8-61AA74B5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A971F-DCBB-45F1-B298-A9337670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B15-0B01-4ACE-B8A8-F42F676A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6B523-7285-4DD9-834E-4CC4126E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C7D82-1044-48E0-B8D4-852AEA86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7FAD2-1ACD-4BB2-BE56-17560576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53D2E-AAB9-4A02-9CAC-D854B65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764B1-7BEB-466F-ADA5-AE033FF5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36939-5CBB-43C4-B96A-9964620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9B4BC-3EC4-4E9D-AB5B-9F426F8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5CF33-D603-4F43-92BA-8456DC6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4A7F3-BEC7-409E-B16E-D4AFACA1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125AF-107F-46EE-A67C-F04D6D0C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B1F-CE81-4749-B69B-EA5EFF5A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B674C-D796-482C-BA3D-B7AC387F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24990-2198-4C11-AAD1-076077F8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3B6C3-7DA1-422B-805B-B53EBCAA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F2B28-5202-46A8-A1BA-1B0C4B6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B8FA4-E171-4B00-956B-4F126E1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9A75C-62D0-4FF4-B870-AC211045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FA74F-0310-41A2-9FA2-AFB58EDB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B4A40-01E3-4D94-9C60-43774477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761C2-B382-484B-A977-C26C4B44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FF287-6F50-48E2-80B7-16F55EB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D5F2-3564-41A4-95BE-4E64236F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77451-60D2-4C64-81AF-D025CF66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5A6EA-0830-4A1C-9F6E-D99E938A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38DC3-96AA-4B35-B458-913E94F0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5C567-005F-49AC-869D-A826126A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E6C4B-3A18-4359-AE45-E479763C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603AA-35A6-46D3-A4AA-522B5566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6A7FC-CF5E-4064-9A44-90D201A0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049F9-9032-4700-8C3B-D8FC7C91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61FDD-C730-4E32-AFA5-CD4CAE1A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22BEB-6D36-4D93-A162-9FAF6DC8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E2F6-3D02-4661-8E86-295571E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DFBD0-61F5-4A3C-8ADA-AA806A08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81FE1-9846-448C-A06C-D619EFDE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21FC1-9412-4938-BA30-7393AF1F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278ED-822A-4EC4-84FB-B627AE85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0305B-C994-4D9E-86A0-64F9A87D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C6159-5744-4028-9210-184BE976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225BF-AFD1-4CC4-BBBB-3DBCD0B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17B3A-662E-468D-BA7C-2455545C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9A1A7-0301-4700-BB15-97BB126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DF9EA-D6C1-44F6-92F2-12A38807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D717-9989-40FA-98A2-C4F21D5C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BDCE8-56BE-448F-AADC-8D5F8A0A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7517B-252B-4FF4-83C6-FA8F1E7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E10A9-DB76-4A31-8AC9-99787949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FD42E-C0CC-4C0E-913E-75C97E29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AEA7D-0EBC-4333-A3AE-D835C92B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093A7-6F09-4DF7-BDBF-DF0D7FDD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EAECF-0394-4357-A465-6E64E98D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C1C5D-37AD-407F-9334-0BBE3BD9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5758E-4442-484E-BB17-0F8319BE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B524C-6D4E-47A7-9DD8-773574AD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BF95-05C2-42D4-8CD9-3E188300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BFD67-0C01-4496-BEB9-7F53C129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E2EEE-1C00-4396-A8A9-3E34F9AD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EA09F-6FEB-4DA8-9C7F-FC580B9A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30EDB-5FD3-44BD-8611-1DCC042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ACC88-C896-4A10-B6F1-3C3689F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A6AC0-4F1F-4E4F-AB85-A5DEBC2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20846-9E51-466C-BDAC-563CDFCF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D484D-CC9D-4893-A10C-1017D558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AFB06-AF99-4BEC-98B5-7128A777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95EE9-CF1D-4820-90B9-5D3E4DE1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3DA8-637F-43D0-A356-33CCADDF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990E2-ECD4-4318-BC86-9160C24C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AEFAB6-2956-4BDD-A412-A3093D4A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73D48-1055-42EF-BA6B-C2D79EE4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FEDB7-3D3F-4294-9530-F7F537F4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43C06-4EF6-4821-84CB-1A5DDC5A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E3A75-8479-483E-AEF0-9D97569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C0F89-301C-4DE7-A16D-62954403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87797-577C-48D2-A7C0-23572A6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E5BD5-7569-4FB4-81D4-4BC24132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67F34-70F7-4876-9E43-ECD0ECC1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47E3-DFB8-4CC1-9070-F815A9C3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95053-2991-401F-B033-7FA8B9FD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33754-E28F-4E2B-BF98-DBF7EBE5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EC5B0-4AD1-4CA0-979E-FFCF68DB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070BA-3555-4FB8-87FE-52A4390E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6DF46-0327-497C-AA33-22FA25DE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95D7B-DCE3-46AE-9EA9-9BB172C1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0E09E-2D80-4846-A9EA-6C54EBFB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FD9E7-A7B5-420D-9166-C0EDA4F5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29D3BB-143A-400F-B844-7FDD055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4B5F6-BB3F-4C2B-A6FD-89CC032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295F-5A47-4758-A332-DF9414CF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28208-4B14-4FF6-8797-AF2FD1C5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F4842-EEC7-4016-B5C7-3DEE05B6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19F02-EFE2-4AEF-8CD7-3AC1351E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F8CE9-68B0-4C5F-838B-D61E651F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202A7-27A4-4FD2-9DCB-E35F4EC7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59CF3-F65F-4BFB-A142-B99309CA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0D6C3-E6A4-4125-8526-60C4832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9FBAB-9AD7-4D4F-8EBD-D9D7A70B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097EB-79C4-487A-8CA7-E65F8972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ADAC7-CDC4-4300-877F-38F0AD07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D6B-E4E2-4E7E-9FA3-C59F5D22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46CC-8666-4AC9-9791-48E2B7A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7E12D-DF65-4BDA-81E9-5D1AD02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2058E-4341-49B2-9678-DAFF4446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06888-C7FF-4B0E-A8D9-99400DB5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F91BB-2398-408F-9714-7B7E41DC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1B11F-1AF8-48FB-890C-1AA35E0D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C3C83-FED7-4DD2-A813-35FABD35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C471F-A0C4-42D5-93A0-4704B742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2906F-A390-4D01-BC4A-6719575A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C2FC0-DAE9-4281-889A-8426CFF5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BDD1B-9BCD-4F1F-B762-9E88EE96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899A-84D3-43AD-9BC6-F8732952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C5B82-A1DC-49F4-880B-902597E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605F9-667C-43E1-B986-EAEBCE1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2E2CA-BD2D-4F42-9927-6890117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B3F8B-F1FD-45E8-9A58-E2D1B81F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043F47-3129-4800-BA12-07FEEC5E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CE0FA-62D5-4371-A052-97636C8C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A1003-83F3-49DC-9D9B-A96CD000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14BA7-0EA8-427C-8C24-C5D60E3C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2A1C9-273A-41B3-8843-8BC2880C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E3F730-8198-4582-A410-2445350F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6B44-DCA7-4D04-AB3A-38EC465D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BC4DE-1147-452E-9EA5-B4737DE4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3851C-1293-4A19-9EBC-99567058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7A445-E2FB-456C-BBE2-84CA506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CF618-3B39-41F0-8A2D-578A053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6B1EB-A31E-4F09-ADD5-711B7E84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789E4-A7A4-4E5C-BD72-E57C74D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045E52-F301-4E7D-873B-0CB73328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EB8A6-E060-4738-8CA0-5B706713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FE39C-C7B7-4747-B930-8A55F3C4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0DE118-D4C3-451C-BDB1-C22FB9C3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2C37-1AC5-4353-B789-08138294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776D1-106D-4601-A726-50A015B8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25295-D853-4097-B21B-E472C4BA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F8140-675A-4C9C-96F1-5B2C880B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6CDC68-E7AB-4CF5-B597-9C3921E4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EAC91F-73F3-456B-8032-F3DA95B6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0437E-FA98-47B7-945D-ADB305CB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F1224-FDC9-4E99-ACF4-F6B3049A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2FEB7-6ADA-40B0-B385-C3F4029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058EA6-8721-4C4C-91AD-11016DF3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E0B11-B461-44F4-B949-A999115A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B1EE-25A4-46D3-982F-82A382E5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3F4C9-77D4-4234-B8F8-BFABE754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3A8467-8C6B-4DAB-B9BA-044B4A19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E982D3-9B00-4D23-B2EE-45F6ECED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1D1B3-4C54-4530-B84D-149DD08A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96765-91BA-4DEC-93F2-FC603317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5EEB4-B1C8-4ABF-B7AC-4E5B09E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466F9-45F3-4E42-A3BD-B258E5E2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BFD3F-CC03-41B3-B19D-C9E7F8B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36DD49-E319-40B5-8A9C-E08915C5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47F28-3139-487E-8412-9F44AF76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B31F-7856-49B3-9CD4-89D24E1E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83FBE0-CCE4-4423-930C-E67890DA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DD43D-2C73-4EEC-B8D1-94B98BD7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3C0483-BB8F-4851-808E-194447EF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85FA64-371C-4B47-9FC8-9321245F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09002A-5B16-440D-AB0B-66481938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44694-08DC-419C-AC7B-429DD29D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3D9733-9ADB-41CF-8138-88611031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F7530D-74AC-47C0-90B7-F1B22FD8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D96E50-C2F6-47C5-9B7E-48F3B7CB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621A6A-A70B-45FA-B676-8EF56C7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FDD2-FD92-4BE8-899E-CAFCAC0F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8A660D-6A44-49F8-8C3B-40F808B5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7A1947-EF3D-4527-9270-E7C5515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42CC75-32BA-453F-A7E0-2A35ACF5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6F8DD6-082A-4004-80D7-80736455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3CE36B-D937-4DB9-A0FC-1CFABA1A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CD6F1C-A6C1-4DDB-BB85-E9CCEC62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7208E5-76D2-4F7F-8412-0AC821BC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80D109-9159-4F28-9D7C-B6FB2E4F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D00C21-F5B7-4567-A389-C33AB3E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112314-8A1E-48A2-B183-5FF52D99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5C0B-964D-4988-B405-1FA1623F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DBCF76-F23E-4C62-BFAC-CED38A40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519731-30F8-4ACC-8513-3F93F46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58B03C-8DF8-4D7B-8E59-77989F88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B8117F-2713-4A6B-9274-8AC0706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59B03D-E04C-43BD-833D-93682CBC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A60CF6-E9BD-4FB0-8B96-0B866B20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B49B32-0EFE-4B6E-86EA-C67624A7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7ACB7C-7E0F-46A1-8F1A-F66EB268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314A3C-B141-4D62-82DF-E9D2FFF2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54B79C-BD77-4C20-8518-D4A79D3B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9EE5-65CD-4E9F-BB50-A17FBFFF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CDAEEA-471B-43BC-8C10-51C6576A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77650A-66F2-49D2-985F-33AE2ADA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81593B-D92B-498B-ADCF-C45138FE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39CA5A-E448-4580-A98B-7FF252A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E207B2-8764-44B2-97C5-5C05AFBA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C3983A-7166-4AE8-B6CB-5E38665A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F25A35-2169-47AC-A254-7BF0BEC5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A47CAC-05E0-4952-8C9C-15035C19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0A098D-D941-4A38-BCAF-67884039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102A11-E20A-4574-B008-83F5C530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103E-F753-4652-921F-02448A00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365C64-CFF1-4E26-B84E-E3D15D47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FC66CA-5129-4259-A078-A8EF5CD1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7A31FD-7CD3-4AF0-8B15-57D837B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CB8B60-46B2-4C16-A43F-D113ADB8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CAE1EE-9AD1-4499-B9D6-9E5A0F67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1BDADE-BDB8-4462-8919-56CA45A9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86A095-409F-4545-8F70-82A2D2F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512463-FD1F-4D97-9C28-F1D7D66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DB44F1-343C-4932-AD22-79D5C2F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68A15E-6AC9-4E6C-B570-FCE329EE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1B0-5EE9-470C-ADE3-B765FD3E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22D6-5692-43CC-AEB7-448FF13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B5C1BF-377C-47CA-A061-1180C2DE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DAA08C-8582-40CF-89DB-DF38694B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76AB12-D94E-4C45-96A9-3C3B473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351826-1D0F-46BA-8969-0B148B26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9295A1-D377-491B-8842-EE898F43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64DBB6-37A8-4D5A-9535-5F9A6B90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8E6989-D513-476D-B7CE-59A42C30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C69068-D64F-4FE5-8544-D2ABD20B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C80B4D-B704-487A-A880-09BAF05B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503C90-0F6A-4CB2-A325-31104FC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F8DF-983C-4D36-8493-0D9BF4D7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63DAC9-407B-4F67-8930-7D64FE7D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FFAFB3-4539-40DC-9CDB-17EA2BFA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50F5C3-A457-443C-943E-89305F4B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844979-8735-450B-91A6-E2050DD8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70B04B-B843-479A-B5D0-642A8B2D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C5A743-E88C-4AD9-8536-D8635207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6179AA-9EF9-4457-B9D8-F14BAC1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AC17EA-D886-4535-943D-714A499A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5489C3-1356-47E8-8E74-87A8D42F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A39CA1-36E8-4CAE-90D9-8FAEBFF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898F-68ED-49F3-BD4E-091F86DC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E056A6-E5D6-4810-A86E-2163DB3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2AA223-60C3-478F-B0F3-DC34DF7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4B6783-2D87-4BE6-B237-D5451FCC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517E76-69BB-4B1D-B3D9-D45AFAE0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8EA14A-661E-461A-B813-8AF9FA5C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5CE51D-C171-4E66-89D5-1238BB73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1DBD4B-6B48-41A0-8024-B3C61E4C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1A9856-E7E5-4296-894C-474BDC97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10524D-1E2F-4ED2-BD9B-EE32D591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BDE036-036A-4337-B019-5BBBFF9D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41AD-1A97-47D0-88C1-A23019C4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C0DDDA-3452-4CB9-AE16-80F3062A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C6F894-AF38-4D82-A915-8AAF6711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71193C-4524-42CA-854C-C59E695B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2B91FD-0018-4AC8-BC03-923FA95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39BCB8-5138-4BA3-A3AD-7552A4C8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F9CCF5-9DCF-4C5A-A8FE-C401572A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9B2263-F586-4A0F-8A19-8D7DCDDF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0800A7-A91A-45AB-9D42-1432F534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626F50-F8F9-4205-84CE-BBDC595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7CF519-5549-4196-B213-18CDE183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4A1F-5920-48AE-A1D3-A347655A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61C283-7BD0-43DA-AA5F-392DB1E8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5FDF6E-934E-46E2-ACD3-AF9234EB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E1DEB7-42E0-4715-A34C-E827EC0B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D96DD4-49C6-4F4B-B0C4-A818ACA8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DE0364-9B84-46F6-8384-0398E40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041DF6-C413-43ED-94A7-CB82065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968952-37BD-4C1F-B495-9A5FDC0D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7CD9CE-9E50-4A24-86DC-9AD63934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5CB879-5BFC-4980-83FD-4ED0CB5C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D23CFF-3FC0-4632-A857-2C5B11D7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D29B-3315-4360-B7A1-9A468ABB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1BD373-A30A-4874-9B98-E21F09E5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714F08-D964-4928-924B-FFDE2ED7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CE6A69-6270-4748-B4BF-B3F93B59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D62A5E-7D5A-4F11-9815-8CBD2037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A2497D-84D6-49B8-8640-D95CC323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DBCF47-DE57-4908-8748-A404D9C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71DB97-342B-4C40-BB8E-F2033FCD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765ACE-DDCE-43A5-92E9-363A6D2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A9E3A1-7D83-4485-BE6A-7A00CB3E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3E8018-BE5A-4040-9E65-4E050688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E54D-D1E4-4476-B826-5278A159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EDEAFB-01D0-4090-A55B-32EB1216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DA0965-F4EB-4276-87EE-9DCEDCA9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8D2C62-7ACD-432A-8D78-9F4A39B2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1226A3-91DC-4BA0-ADDE-B18F00FF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DB6276-FB1F-43A6-B3DB-0F564E44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0A5B61-8986-4F4C-BA17-CC853B2C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555F24-74B2-43A6-8DAA-29D0544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DADEA4-7288-4CD3-AEBC-06B42ED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BC65C1-8136-468F-85C4-F10C9B39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1588A5-2D51-44A4-B343-25BAFB3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5B5E-7B82-4AA5-98AE-4D274B87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68BBEB-FB04-475F-9D26-3B1A9B80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6EA9E8-7359-4594-AB08-FC4A0905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7E9CE3-C0D6-479F-87FA-F0313690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3FE3-A7D5-4CB7-87D7-F04C09B6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30FE-AD94-4DF5-B2EF-57222041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915D-899B-4F06-956C-A8055478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8A8E9-CAC8-42FE-8BAB-2F16C668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8172-C813-49F8-BD47-26A5398C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53CB-4AC4-43B2-B502-BE71733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E0A6-61D6-4D41-B64C-3AC01938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EBCBC-0484-4D99-9D90-C7405138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DFC8-4A9E-4BD1-B686-0ADFDCC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CA74-1616-4592-AF15-101F4A19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B08C-9044-4D9B-BEE0-722F1559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A4AC-6B93-4778-9C6D-719486D1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70A1-9331-4125-9A08-25157F10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544-0FDB-435E-BA8F-67A19759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A9BE1-596B-4326-9CD5-3517A78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B032A-E28F-4E2C-B33C-E8727959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BB3B-2300-4890-970D-C8CE7A0F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CF5E0-5A1A-4AFF-B444-1AD2059B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90DD4-FE45-4CA3-9AB1-8E05EF80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2FD6-2967-485F-AE2C-B6C1E8EF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49C54-CC0C-4881-82CF-AB3B27C0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F45BB-33EA-4796-B9FC-E59CCE69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00D6-1EB7-4CEF-9F01-98C5BBB1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89960-669B-4FFF-86F5-8028BC6D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EB1-08C8-4153-AA34-480B7C62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F5E3-FB48-45E9-9D1A-6FE18ED5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E9A8-6880-4250-8A21-A4EB0907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EA7A9-5AF7-4483-BF1C-DE49AABA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7523C-F75F-4DC0-84D2-B7CA65B3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C8D3C-27F5-4E10-9F9A-71F3C9EC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0EB7B-D879-43FD-9466-5FCAFCB9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B5D70-B555-4D26-8C24-63654685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A833-A903-4273-82E3-53F4BA11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6B5E5-8282-4535-8DF5-51B710C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3CAED-D485-4728-8BCC-A82D25A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AF3-D98C-4649-845B-2952563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E58A0-EF36-4C91-BCB0-EE2B96C1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BDF4-0CFB-49FF-8224-8688FFCB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A290-5922-49D8-B2B4-A1D775DC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52095-671F-42AF-AE9D-7CA01009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98195-2AB1-47E3-9D40-3A3CC2FE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7769C-925B-445D-92B3-5531821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1DF91-86C7-449D-AF54-FE9370F9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5C196-B873-418C-8CC9-25D2F565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14243-B04F-4C27-8D46-88BA47DD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EB3F3-F2CE-4D1E-9D42-B3B54407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C91-55B9-49F2-B8D9-0D3C5E9C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8E34-B3BE-4B69-ADDF-8DC3AE6E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31211-23AF-47B0-91A6-05222465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0B44B-B23C-4B23-970E-71B9C445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E2577-7D9F-40D5-9E0E-CAE1EA9C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2C0C-F11A-4A49-8E1A-F6E59177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2784A-035C-4100-9772-B7B07A0C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D6A9A-470F-4BD5-8BCE-EDCF3B12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8D429-1EA3-4F60-805F-58393704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60DC5-22BC-495D-8EF7-95323EFD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0253F-9E41-4417-8E13-D31114F6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DE7-1DCC-4B95-B2B7-69EB533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6C904-D573-4249-A086-4D8D64DD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4A4A6-E54E-44BC-B5A0-8A4851BB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D8745-BDCC-40C9-8B0D-CCCEB780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FD815-1815-4405-AD1F-7845878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FB25-A890-4A10-9B5E-9FED8DD2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83CC-8EA6-4A51-ABEC-1642D59E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798D0-76A2-4D9A-AC41-35927A6E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BD42F-353E-458F-85AC-B22F0575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838D3-1BA5-4E5D-9E04-E25C477C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02FDF-D2B0-484C-98D2-A52E9787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9D7A-A320-4D5D-A132-7732EBE465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9FEC-786C-44D7-929F-D78E757BEE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5F85-CBFD-4F0A-A134-AAE4217169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33F-38FC-4CCE-82BF-7FCADE3A5C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E9D-FD97-4059-9379-52D68AB8DE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EF9A-029E-4C1C-BE36-7D64586E3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BFC8-1CF6-403A-8432-8DB3D84591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E022-3932-455A-A6E4-4A8A4E017B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6362-1821-454B-A500-BF7A28F25C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9267-BAF2-4CE1-A523-F61E29C027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26D-261C-483D-B180-0D22E2961A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2162-9ECA-4FD1-B636-148C704A5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507F-4C01-4E15-86AD-2A2CF7D43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3A6C-0EBE-4FAD-A922-5DDCD578E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0892-F88E-4793-A852-A88EC28443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B183-070B-4B66-BD1D-88494CCBD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D591-FBB8-4405-86F5-47C7501C8A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75DA-1616-4993-ACCF-B2E7482A9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7F73-105A-49CB-BE96-392048E9B4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3F94-D975-46FE-B08F-4BDD556926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6ADF-15B6-4A1A-B9AB-E3ECAF5158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0094-43AD-4465-A560-2B3046DBF5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C527-8145-40A0-8403-F101DA14F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C15A-7DD8-4488-B2E0-AE24F056BC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5CFC-4281-423F-A9C6-894AA070D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95D8-05D8-4F76-B49A-F6AF4B4D0F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AD2E-E786-4C6F-A280-5816AA8CC6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4725-3C85-4871-8427-5BDBF50042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ECD5-D238-4DC3-9F1E-DC75BD8852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969B-0A32-4D63-AFCD-0D58153BA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836E-9B51-4DB4-AE86-1F3A027B8C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6D41-AD86-4FB4-B1D7-6993CDEB76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7AFB-200C-40A2-A869-32EDFEA0AF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37DC-C5C9-49BE-99E3-741C6AD0A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53C7-0ACD-441A-84B5-BF67BEA456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67F8-A5A1-4D8E-A799-2299ABDC69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EB25-19FA-4028-93F3-9451C76CB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A6EB-81BE-40D0-8F24-C1329E9CA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57BA-F8B9-47F4-A0FC-1E528E5670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1441-16E7-478C-AD5D-8960F9F333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E18F-10D7-4542-847A-D406ECD4DF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6249-DC39-4054-955E-31024BBBB5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9A80-1DD7-41A8-B085-56CD9B4A2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CBDE-FDD6-446F-9C08-F0A91199CF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BC7D-5E29-427E-9631-90F3911682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2E7F-A8D4-40F7-B4B0-CBA6AABBB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8F91-333A-4A98-90C8-3322019862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76D9-51AC-4B0D-99E0-6BCE53557D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A07C-85A0-4F88-ACE9-7EF7382004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9BEE-7CEA-41D4-B05A-5446FF22F1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3648240" cy="3715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981000" y="2867040"/>
            <a:ext cx="3067200" cy="287640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5000760" y="3249720"/>
            <a:ext cx="3028680" cy="216216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2038320" y="4848120"/>
            <a:ext cx="2125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907920" y="5140440"/>
            <a:ext cx="3357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895320" y="5457960"/>
            <a:ext cx="3357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40990"/>
          <p:cNvSpPr/>
          <p:nvPr/>
        </p:nvSpPr>
        <p:spPr>
          <a:xfrm>
            <a:off x="4870440" y="3159000"/>
            <a:ext cx="3357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40991"/>
          <p:cNvSpPr/>
          <p:nvPr/>
        </p:nvSpPr>
        <p:spPr>
          <a:xfrm>
            <a:off x="4870440" y="3438360"/>
            <a:ext cx="3357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40992"/>
          <p:cNvSpPr/>
          <p:nvPr/>
        </p:nvSpPr>
        <p:spPr>
          <a:xfrm>
            <a:off x="4844880" y="3743280"/>
            <a:ext cx="3357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40993"/>
          <p:cNvSpPr/>
          <p:nvPr/>
        </p:nvSpPr>
        <p:spPr>
          <a:xfrm>
            <a:off x="4832280" y="4124160"/>
            <a:ext cx="315432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图片 132097" descr=""/>
          <p:cNvPicPr/>
          <p:nvPr/>
        </p:nvPicPr>
        <p:blipFill>
          <a:blip r:embed="rId1"/>
          <a:stretch/>
        </p:blipFill>
        <p:spPr>
          <a:xfrm>
            <a:off x="142920" y="882720"/>
            <a:ext cx="8172360" cy="339084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132098" descr=""/>
          <p:cNvPicPr/>
          <p:nvPr/>
        </p:nvPicPr>
        <p:blipFill>
          <a:blip r:embed="rId2"/>
          <a:stretch/>
        </p:blipFill>
        <p:spPr>
          <a:xfrm>
            <a:off x="754200" y="4260960"/>
            <a:ext cx="2962080" cy="1257120"/>
          </a:xfrm>
          <a:prstGeom prst="rect">
            <a:avLst/>
          </a:prstGeom>
          <a:ln w="0">
            <a:noFill/>
          </a:ln>
        </p:spPr>
      </p:pic>
      <p:sp>
        <p:nvSpPr>
          <p:cNvPr id="1383" name="矩形 132099"/>
          <p:cNvSpPr/>
          <p:nvPr/>
        </p:nvSpPr>
        <p:spPr>
          <a:xfrm>
            <a:off x="781200" y="2892600"/>
            <a:ext cx="5567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2100"/>
          <p:cNvSpPr/>
          <p:nvPr/>
        </p:nvSpPr>
        <p:spPr>
          <a:xfrm>
            <a:off x="755640" y="3336840"/>
            <a:ext cx="5567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2101"/>
          <p:cNvSpPr/>
          <p:nvPr/>
        </p:nvSpPr>
        <p:spPr>
          <a:xfrm>
            <a:off x="831960" y="3844800"/>
            <a:ext cx="5567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2102"/>
          <p:cNvSpPr/>
          <p:nvPr/>
        </p:nvSpPr>
        <p:spPr>
          <a:xfrm>
            <a:off x="819000" y="4264200"/>
            <a:ext cx="5567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2103"/>
          <p:cNvSpPr/>
          <p:nvPr/>
        </p:nvSpPr>
        <p:spPr>
          <a:xfrm>
            <a:off x="781200" y="4734000"/>
            <a:ext cx="5567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2104"/>
          <p:cNvSpPr/>
          <p:nvPr/>
        </p:nvSpPr>
        <p:spPr>
          <a:xfrm>
            <a:off x="755640" y="5229360"/>
            <a:ext cx="5567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图片 131073" descr=""/>
          <p:cNvPicPr/>
          <p:nvPr/>
        </p:nvPicPr>
        <p:blipFill>
          <a:blip r:embed="rId1"/>
          <a:stretch/>
        </p:blipFill>
        <p:spPr>
          <a:xfrm>
            <a:off x="163440" y="851040"/>
            <a:ext cx="8105760" cy="5105160"/>
          </a:xfrm>
          <a:prstGeom prst="rect">
            <a:avLst/>
          </a:prstGeom>
          <a:ln w="0">
            <a:noFill/>
          </a:ln>
        </p:spPr>
      </p:pic>
      <p:sp>
        <p:nvSpPr>
          <p:cNvPr id="1390" name="矩形 131074"/>
          <p:cNvSpPr/>
          <p:nvPr/>
        </p:nvSpPr>
        <p:spPr>
          <a:xfrm>
            <a:off x="730080" y="1825560"/>
            <a:ext cx="2913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1075"/>
          <p:cNvSpPr/>
          <p:nvPr/>
        </p:nvSpPr>
        <p:spPr>
          <a:xfrm>
            <a:off x="679320" y="2333520"/>
            <a:ext cx="44625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1076"/>
          <p:cNvSpPr/>
          <p:nvPr/>
        </p:nvSpPr>
        <p:spPr>
          <a:xfrm>
            <a:off x="628560" y="2828880"/>
            <a:ext cx="44625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1077"/>
          <p:cNvSpPr/>
          <p:nvPr/>
        </p:nvSpPr>
        <p:spPr>
          <a:xfrm>
            <a:off x="806400" y="3311640"/>
            <a:ext cx="451332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31078"/>
          <p:cNvSpPr/>
          <p:nvPr/>
        </p:nvSpPr>
        <p:spPr>
          <a:xfrm>
            <a:off x="819000" y="4200480"/>
            <a:ext cx="51102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31079"/>
          <p:cNvSpPr/>
          <p:nvPr/>
        </p:nvSpPr>
        <p:spPr>
          <a:xfrm>
            <a:off x="755640" y="4670280"/>
            <a:ext cx="509760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31080"/>
          <p:cNvSpPr/>
          <p:nvPr/>
        </p:nvSpPr>
        <p:spPr>
          <a:xfrm>
            <a:off x="743040" y="5572080"/>
            <a:ext cx="51102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图片 130049" descr=""/>
          <p:cNvPicPr/>
          <p:nvPr/>
        </p:nvPicPr>
        <p:blipFill>
          <a:blip r:embed="rId1"/>
          <a:stretch/>
        </p:blipFill>
        <p:spPr>
          <a:xfrm>
            <a:off x="158760" y="895320"/>
            <a:ext cx="81151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图片 129025" descr=""/>
          <p:cNvPicPr/>
          <p:nvPr/>
        </p:nvPicPr>
        <p:blipFill>
          <a:blip r:embed="rId1"/>
          <a:stretch/>
        </p:blipFill>
        <p:spPr>
          <a:xfrm>
            <a:off x="738360" y="849240"/>
            <a:ext cx="7438680" cy="4981680"/>
          </a:xfrm>
          <a:prstGeom prst="rect">
            <a:avLst/>
          </a:prstGeom>
          <a:ln w="0">
            <a:noFill/>
          </a:ln>
        </p:spPr>
      </p:pic>
      <p:sp>
        <p:nvSpPr>
          <p:cNvPr id="1399" name="矩形 129026"/>
          <p:cNvSpPr/>
          <p:nvPr/>
        </p:nvSpPr>
        <p:spPr>
          <a:xfrm>
            <a:off x="844560" y="4962600"/>
            <a:ext cx="32306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9027"/>
          <p:cNvSpPr/>
          <p:nvPr/>
        </p:nvSpPr>
        <p:spPr>
          <a:xfrm>
            <a:off x="704880" y="5457960"/>
            <a:ext cx="32306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图片 128001" descr=""/>
          <p:cNvPicPr/>
          <p:nvPr/>
        </p:nvPicPr>
        <p:blipFill>
          <a:blip r:embed="rId1"/>
          <a:stretch/>
        </p:blipFill>
        <p:spPr>
          <a:xfrm>
            <a:off x="649440" y="855720"/>
            <a:ext cx="7591320" cy="494352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28002"/>
          <p:cNvSpPr/>
          <p:nvPr/>
        </p:nvSpPr>
        <p:spPr>
          <a:xfrm>
            <a:off x="743040" y="949320"/>
            <a:ext cx="38145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8003"/>
          <p:cNvSpPr/>
          <p:nvPr/>
        </p:nvSpPr>
        <p:spPr>
          <a:xfrm>
            <a:off x="755640" y="1432080"/>
            <a:ext cx="6138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8004"/>
          <p:cNvSpPr/>
          <p:nvPr/>
        </p:nvSpPr>
        <p:spPr>
          <a:xfrm>
            <a:off x="730080" y="1927080"/>
            <a:ext cx="6139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8005"/>
          <p:cNvSpPr/>
          <p:nvPr/>
        </p:nvSpPr>
        <p:spPr>
          <a:xfrm>
            <a:off x="857160" y="2384280"/>
            <a:ext cx="72057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8006"/>
          <p:cNvSpPr/>
          <p:nvPr/>
        </p:nvSpPr>
        <p:spPr>
          <a:xfrm>
            <a:off x="743040" y="3235320"/>
            <a:ext cx="720540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28007"/>
          <p:cNvSpPr/>
          <p:nvPr/>
        </p:nvSpPr>
        <p:spPr>
          <a:xfrm>
            <a:off x="717480" y="4086360"/>
            <a:ext cx="747252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128008"/>
          <p:cNvSpPr/>
          <p:nvPr/>
        </p:nvSpPr>
        <p:spPr>
          <a:xfrm>
            <a:off x="514440" y="4987800"/>
            <a:ext cx="74721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40289" descr=""/>
          <p:cNvPicPr/>
          <p:nvPr/>
        </p:nvPicPr>
        <p:blipFill>
          <a:blip r:embed="rId1"/>
          <a:stretch/>
        </p:blipFill>
        <p:spPr>
          <a:xfrm>
            <a:off x="330120" y="896760"/>
            <a:ext cx="5562720" cy="115272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140290" descr=""/>
          <p:cNvPicPr/>
          <p:nvPr/>
        </p:nvPicPr>
        <p:blipFill>
          <a:blip r:embed="rId2"/>
          <a:stretch/>
        </p:blipFill>
        <p:spPr>
          <a:xfrm>
            <a:off x="301680" y="2151000"/>
            <a:ext cx="8515440" cy="2428920"/>
          </a:xfrm>
          <a:prstGeom prst="rect">
            <a:avLst/>
          </a:prstGeom>
          <a:ln w="0">
            <a:noFill/>
          </a:ln>
        </p:spPr>
      </p:pic>
      <p:sp>
        <p:nvSpPr>
          <p:cNvPr id="1343" name="矩形 140291"/>
          <p:cNvSpPr/>
          <p:nvPr/>
        </p:nvSpPr>
        <p:spPr>
          <a:xfrm>
            <a:off x="3282840" y="1635120"/>
            <a:ext cx="8049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2"/>
          <p:cNvSpPr/>
          <p:nvPr/>
        </p:nvSpPr>
        <p:spPr>
          <a:xfrm>
            <a:off x="4756320" y="1635120"/>
            <a:ext cx="8046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3"/>
          <p:cNvSpPr/>
          <p:nvPr/>
        </p:nvSpPr>
        <p:spPr>
          <a:xfrm>
            <a:off x="5187960" y="2079720"/>
            <a:ext cx="8049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4"/>
          <p:cNvSpPr/>
          <p:nvPr/>
        </p:nvSpPr>
        <p:spPr>
          <a:xfrm>
            <a:off x="2203560" y="3362400"/>
            <a:ext cx="8046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295"/>
          <p:cNvSpPr/>
          <p:nvPr/>
        </p:nvSpPr>
        <p:spPr>
          <a:xfrm>
            <a:off x="5632560" y="3375000"/>
            <a:ext cx="8046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40296"/>
          <p:cNvSpPr/>
          <p:nvPr/>
        </p:nvSpPr>
        <p:spPr>
          <a:xfrm>
            <a:off x="3219480" y="3807000"/>
            <a:ext cx="8049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40297"/>
          <p:cNvSpPr/>
          <p:nvPr/>
        </p:nvSpPr>
        <p:spPr>
          <a:xfrm>
            <a:off x="5530680" y="3807000"/>
            <a:ext cx="8049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图片 139265" descr=""/>
          <p:cNvPicPr/>
          <p:nvPr/>
        </p:nvPicPr>
        <p:blipFill>
          <a:blip r:embed="rId1"/>
          <a:stretch/>
        </p:blipFill>
        <p:spPr>
          <a:xfrm>
            <a:off x="281160" y="928800"/>
            <a:ext cx="8581680" cy="4467240"/>
          </a:xfrm>
          <a:prstGeom prst="rect">
            <a:avLst/>
          </a:prstGeom>
          <a:ln w="0">
            <a:noFill/>
          </a:ln>
        </p:spPr>
      </p:pic>
      <p:sp>
        <p:nvSpPr>
          <p:cNvPr id="1351" name="矩形 139266"/>
          <p:cNvSpPr/>
          <p:nvPr/>
        </p:nvSpPr>
        <p:spPr>
          <a:xfrm>
            <a:off x="8172360" y="174960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9267"/>
          <p:cNvSpPr/>
          <p:nvPr/>
        </p:nvSpPr>
        <p:spPr>
          <a:xfrm>
            <a:off x="6203880" y="427680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图片 138241" descr=""/>
          <p:cNvPicPr/>
          <p:nvPr/>
        </p:nvPicPr>
        <p:blipFill>
          <a:blip r:embed="rId1"/>
          <a:stretch/>
        </p:blipFill>
        <p:spPr>
          <a:xfrm>
            <a:off x="460440" y="912960"/>
            <a:ext cx="8553240" cy="4829040"/>
          </a:xfrm>
          <a:prstGeom prst="rect">
            <a:avLst/>
          </a:prstGeom>
          <a:ln w="0">
            <a:noFill/>
          </a:ln>
        </p:spPr>
      </p:pic>
      <p:sp>
        <p:nvSpPr>
          <p:cNvPr id="1354" name="矩形 138242"/>
          <p:cNvSpPr/>
          <p:nvPr/>
        </p:nvSpPr>
        <p:spPr>
          <a:xfrm>
            <a:off x="8362800" y="86040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3"/>
          <p:cNvSpPr/>
          <p:nvPr/>
        </p:nvSpPr>
        <p:spPr>
          <a:xfrm>
            <a:off x="6496200" y="2193840"/>
            <a:ext cx="3981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4"/>
          <p:cNvSpPr/>
          <p:nvPr/>
        </p:nvSpPr>
        <p:spPr>
          <a:xfrm>
            <a:off x="3930480" y="4098960"/>
            <a:ext cx="982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5"/>
          <p:cNvSpPr/>
          <p:nvPr/>
        </p:nvSpPr>
        <p:spPr>
          <a:xfrm>
            <a:off x="3270240" y="4492800"/>
            <a:ext cx="1401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46"/>
          <p:cNvSpPr/>
          <p:nvPr/>
        </p:nvSpPr>
        <p:spPr>
          <a:xfrm>
            <a:off x="2965320" y="4924440"/>
            <a:ext cx="1401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7"/>
          <p:cNvSpPr/>
          <p:nvPr/>
        </p:nvSpPr>
        <p:spPr>
          <a:xfrm>
            <a:off x="2622600" y="5343480"/>
            <a:ext cx="753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图片 137217" descr=""/>
          <p:cNvPicPr/>
          <p:nvPr/>
        </p:nvPicPr>
        <p:blipFill>
          <a:blip r:embed="rId1"/>
          <a:stretch/>
        </p:blipFill>
        <p:spPr>
          <a:xfrm>
            <a:off x="509760" y="890640"/>
            <a:ext cx="8505720" cy="2409840"/>
          </a:xfrm>
          <a:prstGeom prst="rect">
            <a:avLst/>
          </a:prstGeom>
          <a:ln w="0">
            <a:noFill/>
          </a:ln>
        </p:spPr>
      </p:pic>
      <p:sp>
        <p:nvSpPr>
          <p:cNvPr id="1361" name="矩形 137218"/>
          <p:cNvSpPr/>
          <p:nvPr/>
        </p:nvSpPr>
        <p:spPr>
          <a:xfrm>
            <a:off x="781200" y="2143080"/>
            <a:ext cx="54147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7219"/>
          <p:cNvSpPr/>
          <p:nvPr/>
        </p:nvSpPr>
        <p:spPr>
          <a:xfrm>
            <a:off x="730080" y="2536920"/>
            <a:ext cx="5415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7220"/>
          <p:cNvSpPr/>
          <p:nvPr/>
        </p:nvSpPr>
        <p:spPr>
          <a:xfrm>
            <a:off x="755640" y="2981160"/>
            <a:ext cx="5415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6193" descr=""/>
          <p:cNvPicPr/>
          <p:nvPr/>
        </p:nvPicPr>
        <p:blipFill>
          <a:blip r:embed="rId1"/>
          <a:stretch/>
        </p:blipFill>
        <p:spPr>
          <a:xfrm>
            <a:off x="314280" y="870120"/>
            <a:ext cx="8134560" cy="445752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6194"/>
          <p:cNvSpPr/>
          <p:nvPr/>
        </p:nvSpPr>
        <p:spPr>
          <a:xfrm>
            <a:off x="5823000" y="290520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135169" descr=""/>
          <p:cNvPicPr/>
          <p:nvPr/>
        </p:nvPicPr>
        <p:blipFill>
          <a:blip r:embed="rId1"/>
          <a:stretch/>
        </p:blipFill>
        <p:spPr>
          <a:xfrm>
            <a:off x="339840" y="884160"/>
            <a:ext cx="8210520" cy="3819600"/>
          </a:xfrm>
          <a:prstGeom prst="rect">
            <a:avLst/>
          </a:prstGeom>
          <a:ln w="0">
            <a:noFill/>
          </a:ln>
        </p:spPr>
      </p:pic>
      <p:sp>
        <p:nvSpPr>
          <p:cNvPr id="1367" name="矩形 135170"/>
          <p:cNvSpPr/>
          <p:nvPr/>
        </p:nvSpPr>
        <p:spPr>
          <a:xfrm>
            <a:off x="7677000" y="139392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5171"/>
          <p:cNvSpPr/>
          <p:nvPr/>
        </p:nvSpPr>
        <p:spPr>
          <a:xfrm>
            <a:off x="5035680" y="3362400"/>
            <a:ext cx="3981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图片 134145" descr=""/>
          <p:cNvPicPr/>
          <p:nvPr/>
        </p:nvPicPr>
        <p:blipFill>
          <a:blip r:embed="rId1"/>
          <a:stretch/>
        </p:blipFill>
        <p:spPr>
          <a:xfrm>
            <a:off x="239760" y="863640"/>
            <a:ext cx="8029440" cy="5486400"/>
          </a:xfrm>
          <a:prstGeom prst="rect">
            <a:avLst/>
          </a:prstGeom>
          <a:ln w="0">
            <a:noFill/>
          </a:ln>
        </p:spPr>
      </p:pic>
      <p:sp>
        <p:nvSpPr>
          <p:cNvPr id="1370" name="矩形 134146"/>
          <p:cNvSpPr/>
          <p:nvPr/>
        </p:nvSpPr>
        <p:spPr>
          <a:xfrm>
            <a:off x="1581120" y="134316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4147"/>
          <p:cNvSpPr/>
          <p:nvPr/>
        </p:nvSpPr>
        <p:spPr>
          <a:xfrm>
            <a:off x="7182000" y="5089680"/>
            <a:ext cx="741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图片 133121" descr=""/>
          <p:cNvPicPr/>
          <p:nvPr/>
        </p:nvPicPr>
        <p:blipFill>
          <a:blip r:embed="rId1"/>
          <a:stretch/>
        </p:blipFill>
        <p:spPr>
          <a:xfrm>
            <a:off x="179280" y="866880"/>
            <a:ext cx="8048880" cy="5200560"/>
          </a:xfrm>
          <a:prstGeom prst="rect">
            <a:avLst/>
          </a:prstGeom>
          <a:ln w="0">
            <a:noFill/>
          </a:ln>
        </p:spPr>
      </p:pic>
      <p:sp>
        <p:nvSpPr>
          <p:cNvPr id="1373" name="矩形 133122"/>
          <p:cNvSpPr/>
          <p:nvPr/>
        </p:nvSpPr>
        <p:spPr>
          <a:xfrm>
            <a:off x="857160" y="2320920"/>
            <a:ext cx="30402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3123"/>
          <p:cNvSpPr/>
          <p:nvPr/>
        </p:nvSpPr>
        <p:spPr>
          <a:xfrm>
            <a:off x="793800" y="2752560"/>
            <a:ext cx="3039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3124"/>
          <p:cNvSpPr/>
          <p:nvPr/>
        </p:nvSpPr>
        <p:spPr>
          <a:xfrm>
            <a:off x="907920" y="3311640"/>
            <a:ext cx="30402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3125"/>
          <p:cNvSpPr/>
          <p:nvPr/>
        </p:nvSpPr>
        <p:spPr>
          <a:xfrm>
            <a:off x="870120" y="3807000"/>
            <a:ext cx="3281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3126"/>
          <p:cNvSpPr/>
          <p:nvPr/>
        </p:nvSpPr>
        <p:spPr>
          <a:xfrm>
            <a:off x="819000" y="4251240"/>
            <a:ext cx="3281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3127"/>
          <p:cNvSpPr/>
          <p:nvPr/>
        </p:nvSpPr>
        <p:spPr>
          <a:xfrm>
            <a:off x="907920" y="4746600"/>
            <a:ext cx="3903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3128"/>
          <p:cNvSpPr/>
          <p:nvPr/>
        </p:nvSpPr>
        <p:spPr>
          <a:xfrm>
            <a:off x="870120" y="5229360"/>
            <a:ext cx="4221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3129"/>
          <p:cNvSpPr/>
          <p:nvPr/>
        </p:nvSpPr>
        <p:spPr>
          <a:xfrm>
            <a:off x="806400" y="5724360"/>
            <a:ext cx="42213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40:41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